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B10-CFB0-497B-AB55-F17093E921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64B-43E3-4E0B-B912-7CB479C91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557-0FBB-444D-9AF5-885C6CDB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D7E-7029-4B99-A8E0-09BAD842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B53-0F2A-4321-9A2D-42A13246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AB9-089A-4877-A2D8-8B490DA3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7830-B61D-4329-B9C4-E2657014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816-2ACE-4C6E-9D9E-FE4EB14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F037-16C8-4FAD-B432-68E6FEEF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9363-6169-4480-B953-8597A01D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6930-14BE-41FF-B2FB-24FD670F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EA53-9BBD-415A-A79A-919395BA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CAC5-7378-4461-8D63-933ADB5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3D6-C6ED-41C4-9AEC-940DAE89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D0C-1E86-45EC-AE3D-86631C8D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39C-3A78-4F22-A361-80866D7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6F2-C4AF-4841-9F09-EE152EA1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9605-9F53-42BC-8C97-0DD6B92F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ACA9-3FC0-40F5-BC29-6F9028B0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DD69-5D7F-4535-8ADF-2EB982AE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A917-6721-4261-AAC2-2F92148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9F81-D3F7-41EF-AF7A-3E4FFCC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6FC5-398D-4019-B71B-32225EE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7D78-B78A-4AD3-8D9D-DD2E9E2E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69C-8607-4816-A3A1-38EFD8F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A79A-7C4C-4A21-9251-4477C344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3A27-B17A-4C3F-9013-D0CCD50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BDC68-98FE-45F2-A0A4-93601AB1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4626-77F6-47C0-96FD-A8ADF92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6C1A-6AE2-4C2F-85C4-6191E7F5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0196-E858-4474-BE67-BFAF94BB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97E0-B408-49C2-8D56-F6F8DE6D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4EF3-0B31-4674-9B02-1052C785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E220-2878-48FD-9D57-2FEDBF6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DDC4-6080-4C83-BCA4-5686540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D35-75A2-4DA6-A8B8-2A524679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AA49E-7E94-41AB-8F66-2E76A98C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D5E8-89F1-483D-AC33-783F3A5F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FB7E-BB26-40E1-B3E1-D2950239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23B0-7689-41C6-B02B-65CF710A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B03A-24B9-4A1B-97F8-89137E9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E064-9F0A-430C-9B8B-C314B6F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6124-2EE3-43A5-84AC-681D69D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A5FF-15F3-4BA7-920C-EB326029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C420-6686-47B7-B102-0712D121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AEB6-9CC1-4EE3-B563-8EFDFF7E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44E-034D-4F25-8A45-D0072C5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F86F-1889-4D85-87D4-BBED8892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A7EF-A4B5-4041-84AF-E6BA1B62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796AD-9034-4F54-B56C-81C0297F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D8B5-787E-4892-ABF0-F9569C2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634D-AE22-4A7A-B40E-17E1F22D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CA60C-FCE8-4709-A672-592AEF4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F69C-F7BA-456E-9D51-E462F5C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9525-44CA-4D7C-B61F-827CA458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DF86-ECDC-442F-9F90-3DA8E7CB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A73B-C428-48A1-84E4-50AA3D02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BF9-E7E7-45B7-B898-55F542CF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B2BB-EC30-4072-AED9-A3F9C837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0F8-2357-4D9E-9D79-D29CE45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A46-4865-47B0-AF1F-2DECC91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74D-9AF9-4412-BAE6-778A196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298-3759-458A-A934-71E74A707F0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2AFB-0A05-471C-9F59-D6540F7439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461-6531-4135-9539-8972D2AC35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3749-B905-49B2-B21C-73913BEC2F2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7223-A062-419B-8847-6CB93A59AE6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llbe.ru/img/clause/kak_vybrat_professiju_clause_original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Verdana"/>
              </a:rPr>
              <a:t>Кем мне стать в будущем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7" descr="kak_vybrat_professiju_clause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28760" y="2643120"/>
            <a:ext cx="4681440" cy="3600360"/>
          </a:xfrm>
          <a:prstGeom prst="rect">
            <a:avLst/>
          </a:prstGeom>
          <a:ln w="0">
            <a:noFill/>
          </a:ln>
        </p:spPr>
      </p:pic>
      <p:sp>
        <p:nvSpPr>
          <p:cNvPr id="229" name="Скругленный прямоугольник 3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1f28"/>
                </a:solidFill>
                <a:latin typeface="Verdana"/>
              </a:rPr>
              <a:t>Призвание - это не цель. Призвание - это притягательное направление жизненного движения, которое включает в себя множество целей разного масштаб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45f07"/>
                </a:solidFill>
                <a:latin typeface="Verdana"/>
              </a:rPr>
              <a:t>Жизнь в призвании позволяет удовлетворить глубинные ценности, то есть, быть удовлетворенным своей жизнью.</a:t>
            </a:r>
            <a:br>
              <a:rPr sz="3600"/>
            </a:br>
            <a:r>
              <a:rPr b="1" lang="ru-RU" sz="3600" spc="-1" strike="noStrike">
                <a:solidFill>
                  <a:srgbClr val="b45f07"/>
                </a:solidFill>
                <a:latin typeface="Verdana"/>
              </a:rPr>
              <a:t>Удовлетворение ценностей сопровождается удовольствием, что делает жизнь "Удовольствием каждый день"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743a"/>
                </a:solidFill>
                <a:latin typeface="Verdana"/>
              </a:rPr>
              <a:t>Любимых дел в нашей жизни может быть множество, и все они связаны одной нитью - нашим призванием, привлекательным нам направлением жизни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Занятие разными делами  обогащает нас знаниями и умениями, складывая которые мы получаем уникальные способности, которые позволяют нам жить в условиях конкуренции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50720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о выбор остается за тобой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2" descr="proforien"/>
          <p:cNvPicPr/>
          <p:nvPr/>
        </p:nvPicPr>
        <p:blipFill>
          <a:blip r:embed="rId1"/>
          <a:stretch/>
        </p:blipFill>
        <p:spPr>
          <a:xfrm>
            <a:off x="5715000" y="2928960"/>
            <a:ext cx="27147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581832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сли ты с детства мечтал стать врачом или космонавтом, и до сих пор не сомневаешься в правильности своего выбора — у тебя нет проблем. Что бы ни говорили мама и бабушка, ты с упорством фанатика штудируешь учебники по химии или биологии, или посещаешь кружок «юный физик» и хорошо представляешь себе, что будешь делать по окончании школы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17" descr="header1ё2"/>
          <p:cNvPicPr/>
          <p:nvPr/>
        </p:nvPicPr>
        <p:blipFill>
          <a:blip r:embed="rId1"/>
          <a:stretch/>
        </p:blipFill>
        <p:spPr>
          <a:xfrm>
            <a:off x="5429160" y="2643120"/>
            <a:ext cx="3214800" cy="317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сли это так, то ты — счастливчик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0360" y="928800"/>
            <a:ext cx="475128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А если нет, то мы тебе поможем советом!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5" descr="choice_profession"/>
          <p:cNvPicPr/>
          <p:nvPr/>
        </p:nvPicPr>
        <p:blipFill>
          <a:blip r:embed="rId1"/>
          <a:stretch/>
        </p:blipFill>
        <p:spPr>
          <a:xfrm>
            <a:off x="428760" y="1143000"/>
            <a:ext cx="309564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Самые престижные </a:t>
            </a:r>
            <a:br>
              <a:rPr sz="4000"/>
            </a:b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    профессии по мнению            россиян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4" descr="01_prof"/>
          <p:cNvPicPr/>
          <p:nvPr/>
        </p:nvPicPr>
        <p:blipFill>
          <a:blip r:embed="rId1"/>
          <a:stretch/>
        </p:blipFill>
        <p:spPr>
          <a:xfrm>
            <a:off x="500040" y="292896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Диаграмма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429400" cy="642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7 профессий для тех, кто  любит общаться с людьм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сихоло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д-переводч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лам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R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дж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джер по продаж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ые нервные професси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213920"/>
            <a:ext cx="7143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бличные : артисты, телеведущие, полит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ворческие:  художники, писатели, режиссеры, журналис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ающие: педаго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исматривающие»: няни, сиде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ющие: официанты, горничные, продав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114300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ие задаются вопросом: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«В чем мое призвание?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 самом деле, призвание- 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эт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2" descr="thinking-man"/>
          <p:cNvPicPr/>
          <p:nvPr/>
        </p:nvPicPr>
        <p:blipFill>
          <a:blip r:embed="rId1"/>
          <a:stretch/>
        </p:blipFill>
        <p:spPr>
          <a:xfrm>
            <a:off x="5357880" y="4214880"/>
            <a:ext cx="209556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50:06Z</dcterms:created>
  <dc:creator>белка</dc:creator>
  <dc:description/>
  <dc:language>en-US</dc:language>
  <cp:lastModifiedBy>Тоха</cp:lastModifiedBy>
  <dcterms:modified xsi:type="dcterms:W3CDTF">2012-11-02T03:47:05Z</dcterms:modified>
  <cp:revision>19</cp:revision>
  <dc:subject/>
  <dc:title>Кем мне стать в будущем?</dc:title>
</cp:coreProperties>
</file>